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E14B-8FC1-46BB-9E85-582DB627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9866-3198-4FCD-846A-BE5B00C0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8C45A-D8FD-4CB7-B89D-7D7730AB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8AE53-558B-457C-AA45-F8498870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C92C9-2B5D-4DEC-865C-9925E4FF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953EE-BFB4-40F0-94E5-8580AA0F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5D92A-4E7D-4303-A8F1-8FB5EB92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E558F-8F45-4D63-8744-B416FFF2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7E3CF-AEF0-4036-B170-6CA6C244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B0303-81D7-4224-B4A9-E0F16F2D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58772-F8A4-4636-BE24-AC74CBCA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B2919-880C-4312-984E-9E647883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5121-325C-4876-AA25-5CDE692D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03F1C-AB62-4B3E-91F7-A67B2715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D0C5B-E5D7-4119-B300-E89DFB5A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71EC3-CD6D-4422-8DEE-B593DA72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E3A3E-795D-4D62-81A4-D61A3DFD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2394B-D224-466E-BFD4-125BEE2B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138A7-8EBF-4CCA-AF86-BDF0B9F5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72245-0347-4B4E-899E-D8CBD3E3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BF321-6EF5-47DB-B67A-964EEB4B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EFC5F-5F05-4FDC-996B-A7A420EB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955A0-6B03-4ECB-9800-173A1340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06E2-E13E-478E-8FCB-BD5DDC19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FCB36-DE06-4090-81E8-9C60AA88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D34CD-37D8-47E4-9324-11CFBD1D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80679-F9AD-4784-8BF7-D9618693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D2500-D7AE-4CF1-BF36-2CA9BCC1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0F638-27BB-408C-9536-1E9ECB84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20A3E-29AE-4B58-9B25-24FE89C6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A1309-C9F4-4CE6-B26B-5C8E3426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F725D-F271-464A-A3EF-65E3BDD6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A6BD3-86F5-44C7-AAAB-731466AD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6527F-C0F1-4936-A3E3-D8D6FB80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DA0D-FAD8-466F-9529-6849B08F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A3FA1-599D-4B3D-9C24-71BD9981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A422D-3902-47D3-A7A9-01168961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A9824-BD95-48FE-9EAA-2B267FE0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139DF-9719-4FEE-AC0E-3F6DB366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C8EF1-572B-4256-9443-4DF9E0F2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A9070-11BA-4659-9406-0EA938DC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FB61B-42E0-4684-B283-8728A216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E11C8-80B6-4AAD-9A4B-E230E979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63CA0-F646-49AF-A15A-0A37C6F3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9BB89-4C8C-49D6-A59A-213B122C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B780-E5BD-4D45-B070-B7D8D34B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F3D3F-614A-4F22-89F3-E46BB4BD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02DC9-7275-4374-8EB7-4AA8C270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2E012-B871-442D-BECB-0D5BAA9D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03C2B-FA0A-4A34-B1D7-31535D70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7E0BC-37EF-481F-97A0-C723A64B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E0CBE2-2BEA-4157-AF56-9F698999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0C7AFA-8737-4E97-8DBD-5996B568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BFC4F9-54F1-4D29-AAFF-9D97BC8A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435BB8-586E-499C-950A-C404C5E6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C38FD4-5097-4AF0-8A8E-3FEFF4A1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A722-A9F4-4FAE-9544-50880A1D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725692-D916-46D7-8A80-03774E11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E3DE39-B9B6-408E-A8C8-E23FBCCD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EFD41B-6BD8-4240-A6AE-4760E4E4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8403E4-7A0C-4B8B-BD94-59A3B5A9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B23228-0CA3-477E-BF9A-11A8574E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407EF0-6E8B-409B-AE74-3A47A960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0F1BA3-B955-46DD-8304-281D1997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D7321B-A004-413C-B76A-CD7FFAEA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072F8F-AFFC-4087-A8BF-75C00A1E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C956E3-83C7-43A7-A353-83634CFC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A180-98B7-4DBB-911E-1606DA4C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3D2A4A-3F83-4CA0-94A3-51676A1B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682646-83DB-4C07-B576-22A68F34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25C468-EB64-48DF-BF6E-94134F44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1B2069-D43F-4871-AB50-69BA59B9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7FC9DE-4F6E-4779-BCFA-162387D3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B98D5D-F2A4-45DE-8643-7EE48ADA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C5F6B3-A14A-473B-8799-3992F94B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FC57F3-9812-4C44-9078-08864B6B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5270DA-9123-4801-BA03-6269120C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450492-9BF4-41FF-B9BE-9F3A650C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3DD9-9D7D-4088-B37E-33305966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900017-9D26-4DCB-93E9-E3984E2E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9F7ACC-D11C-4EA3-A21E-58D43F96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38DB32-94EC-4A3A-9E90-68801FDE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9242DC-55D5-4B32-BEC4-2AEBB5BD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699AE7-C335-4307-B215-B1413A31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87080C-9F17-4062-A9C6-28D34FF6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397186-B313-4E2A-B33B-2AFEC710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04DC3C-7D27-4110-BBA3-50EF582B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35062B-89E2-4760-AFE7-A10816E4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0D5138-BFBC-4356-AD20-9D428F39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0CBA-689F-429D-815B-58D876E6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57D603-CF62-4DA6-BD8D-0D084F73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995C8D-AB68-463E-8993-6FAA8EEB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F89BB0-4208-4EC8-AFBC-0BA5F3CE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0B96BD-3738-48CD-9E4B-FEBDA61E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8127D8-A0D6-497A-89D8-AEC2CEBF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BE3E94-7B96-40C3-80FF-871B2A24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DA18A5-6510-4C48-9925-A7CBD1DC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12BF8A-2DF9-4CD8-BE31-23E7B7C1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264912-DE80-4F68-86C2-6A05B12F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8BD9DC-1EF9-4BF4-9149-16925B63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F5FE-8AE3-47D8-8C47-CABF5346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BBCD49-EC9E-4D0A-A1F5-1E16F3DC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7381E8-022F-4102-802B-30F21818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DE7328-C4EF-48C5-9312-64FD37A3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C5DCD6-A97E-497C-8633-D6FF2689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D1C9CF-2BAC-447B-8FB1-2F587039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B989B3-5760-4262-937D-30235B57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36DC8B-C791-4ED4-9D0F-745590F9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AC7451-797D-4EB2-974C-1A0081B7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83A447-EA71-4B76-A5F8-3FE083D5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DE4003-3A89-4B48-AF8C-1F533DF4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7381-230C-4AF9-B42F-422EB853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6BBA-12EA-4B18-873B-C83F17A4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3727CA-45F7-49A7-AC73-CC10C067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185E04-1A1B-452C-B22B-7B9E26F6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4655EF-E4C1-4A77-8E91-0C563481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269872-AC26-4592-8040-DC20CBCE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074DC2-9CE2-474D-8378-AD588C05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60F416-334B-489A-B98D-669751A0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1579CB-0641-4A1B-809F-C7F4D8B7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553FBD-EF2C-40DC-BBA8-9F66B516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7B81DF-A602-4E7A-8E8B-17F378D7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E9CE51-25BA-487F-B8C7-41B4EE7B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5D22-AD6A-4E91-B2C8-D013B2FE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D3F240-EAFE-4144-B3EE-1C59BB1D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F52D49-225D-48E4-A113-BF8E6693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7F6CD8-4663-4C16-9B8D-73BEEB7A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788B75-F498-4725-9608-A13632CA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88E1FD-E80E-479B-B457-2A5F3BE8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02D26B-A132-4A6F-8DA6-86484ABC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972D00-F13D-4D1E-A74C-8BB37387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D3E32C-80EE-4208-8ABE-3C899B92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5D264E-2129-40F9-BF34-FEB14A76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92AD67-7BAD-4E10-8D6C-D607CBEC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475E-1B65-4DBF-956F-1A63D0CE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722235-0A21-4000-B948-0751EAC4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3E7DDB-03D9-4031-A26B-54E966E7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574377-6806-4AB9-AD20-D9FE6776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F30040-1DA9-48AB-8851-3798B5EA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0A927F-7973-49B4-B873-89062E9B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46E30D-BEA0-46F8-917C-A814B97D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E5068A-EC84-40A8-9B66-08FFCA00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868F89-EC8A-48C2-B7F6-5F8C96DA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11B29D-21AE-4E89-9082-EF825854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C8155A-D5CD-4F1D-987C-0ADB0A53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869F-33E3-41A1-9953-171F0CF5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3F622A-5600-408F-86FE-9AC2FB76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6C0C5F-0ABD-4DCE-9E32-2851FEDE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C40A57-FEA0-4C28-93E1-C5170DB8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93D175-337F-4CE7-9569-467123AA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DD8BB0-592F-4DC9-9274-A86DE316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62F225-14CC-4A68-A4C2-0A4A8B0A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2C4955-BBFF-49FE-8FEA-9887130D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42E386-92CE-49EB-A528-CE85A20D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A0AA4F-B388-454F-B80F-C4E2563E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89F3AA-0670-457C-B0E1-607FC3F3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F00D-B544-4064-A82C-EEBBA035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C876EA-6516-4F72-AD57-7807BA06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4B9C47-C7CC-4621-8998-E0D0D854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B2FA67-2A8E-40E5-81BC-F68F817D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A4E8E8-2F37-4B67-BDAD-0E68753E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F3FC07-11BD-44EA-922C-965BFAA4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1F6FB0-36FC-4651-AAD2-0814AD18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926628-D9C0-4C0E-8B87-C2ECD359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B51EF8-237C-4A1D-B762-58ECFAE1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2037F7-13C1-4815-9B94-DC9E7CE4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EE5A10-E428-40AA-B3E5-C76D6F19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FD534-6552-49B0-961B-5CF002CA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DB1EC0-94E8-4394-9E59-D95A381D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4F9DA3-06C9-4B77-878E-F406EF81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90F7A5-BEE8-481A-BDAE-A74085DB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C702D7-C254-4135-902B-77C3B5C8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90D393-C21C-440B-884D-EBB2DBEE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CDB3AE-8281-4B28-9BFE-783F7231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FEB5DF-C4AD-4204-BE4F-EB38C807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A1CDBE-0EA9-4249-ABC8-4F9BA138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EBE65D-43B6-404C-97CD-765FD7B8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7C2CD9-B057-4082-9702-E6295D3D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FAF09-BE47-4D13-9566-019B80A3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907B9E-DC64-4C6D-A422-2F66A1ED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DBFAFF-9483-464C-B98A-8AB18B37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A33407-360A-447C-AEF7-BAB2C11E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46572B-2600-42D7-86CF-003BD89B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D13F49-6A6C-496D-9BF2-165F4077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4634C9-9C32-477B-A017-EE1EC49A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77F4E0-6E46-4B7E-8A5C-34DFB1FE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AA9E2F-1F78-4E97-9157-2171DBB2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D10853-BE8B-4B71-AAD6-35DEC011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4027B8-59E7-494D-862E-18E8807D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9B080-A196-4CB8-8884-BC1BEEA7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60D5BA-3F6B-4428-BBB2-6314AB51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1AA173-735E-48BB-B60A-38E242BB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CFAB35-50F2-495B-8ED9-EC0524B0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8ED100-ED6A-44DB-95B0-A9F5F2F7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2C8A2E-C129-47C6-93CC-1EC0A4F6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9464FA-560D-480D-8D23-072F5BBC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2F499B-1DA3-473A-ADF6-57B75A43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C8211-9A1F-4249-A844-507CE2E9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BFC9D-4DCD-4DD5-8E5F-54EAD0B9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33F7-CEC4-4B37-8DDB-C739CBCB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D7BF6-1489-4AF9-A430-0F8158D7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464B4-255E-4750-819B-0A571697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EDF4E-9013-48F6-8EC3-197B7414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12846-03DF-45FC-AFF5-3562CAD4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8D423-24BC-463E-AD19-615F006D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8DA63-F4BF-4A1E-B96E-F578C02F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05BC9-2BD5-411C-9DCC-EAE75507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97586-66D2-4A45-AF74-5FB705C7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91C3A-2A5A-4BAD-A07F-0359B1C9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130E0-6E8A-468F-899E-464190A7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08B7-C646-4600-BD78-B39D7772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9441A-EDA9-4C7F-8220-EBA66504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5EDAD-BD3D-407E-B2A9-06C3B9A5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D5E41-DD92-476E-9210-E685A6E0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8377A-59BA-4663-B08A-70451745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71949-9E70-4588-B5E2-513C4502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05B7E-F26A-4A87-A06C-15794F76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5495D-E17A-4006-B061-94385380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8A8B3-402E-45B3-8840-69CAAB99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AD263-24A3-4720-9CC6-DAF4F528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A6368-1630-45C7-9ABB-53598C74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6C2A-9A9B-4977-A09B-59B2A29D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5DF1B-F79E-49C7-8E8C-DD821A01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7C912-311E-45CC-9638-3DF09964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DFA95-7D30-44A6-8E36-E9284DB5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752A6-0ACD-423B-9722-77B93440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8AF0D-0767-4207-A174-B1CAB0B5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EC1BC-3D18-4EF4-9374-4F6C4CF9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F1036-1B25-4BFA-871C-6D7CB0E2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CBCAA-7B40-4B3C-917D-F7477BAB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9D188-D4FB-45B2-87C1-E4431B63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F2D6B-1896-4477-8BDE-8057456C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7707-978A-4795-987E-01595C68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3F499-82AC-447B-A1EC-4FBA1CC4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C1D04-0EBA-44D5-BB28-C7A12DEA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8C132-95B0-4203-9DF0-DCEDF6F1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0D6CE-CBD2-474C-8E0D-35583F97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9F1C1-A13D-460A-840F-60E8C756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F570F-53EC-4D87-AA5A-8FA61C94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31654-B0AA-4ED3-99C0-A093AEEC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D3FE9-C1AF-48DC-B6FC-200D1A5F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3E122-9F04-46A6-A03D-1FC93A31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35E2D-D66E-4CBD-8B56-F5D2FCAB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B903-6D58-4496-BFDB-862929A3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FAD3E-266A-4285-9B4E-6068DF63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E7E6B-E2C8-48DD-BAED-E2178A21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7F193-1AC9-4918-B90C-A17480DB1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EF194-A2AA-4782-89B1-E74F0981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8BA44-3CBD-4A78-8DAC-D7C61A5D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D3F25-F364-422E-9838-2ABC07D6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784EE-19A9-4E87-B8FB-049CA673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1E900-D40A-4C2F-8B6E-6723571B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AA354-B721-4D8E-8D83-03EA55A9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81DBA-E31F-4B29-A818-6F4993FA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3BD4-5853-407A-9BE2-17701BA6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9168D-1A0A-4713-8FE9-10743D44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53EA7-B824-4DEE-94A2-010C76F3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771D3-72B6-41BC-9A74-55394C0D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479E7-4A68-42D6-BB23-0FCB7A5F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07D34-19F4-41DE-9C8B-DE0FC91C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BC49F-D87A-4082-8E86-0FC8FECD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BC60D-39CC-4907-BA80-946FAFE9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4C278-D74D-4327-A5C4-65F910B9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88813-1C64-4770-9AB2-6310F653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70228-8BFF-428F-8CF9-44E68B17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91E0-0AEC-4D4E-BD23-E4DEFED3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9E95B-1C28-4D80-862F-BFE7E3A2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E3767-CDDF-41E0-9D4B-489A29D7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02F0B-467A-4C4C-B78B-EE765A88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C77B4-0619-4273-B527-13E1F44A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9693F-D452-455B-9B79-88CF6C32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223C0-D1E0-4123-8BDD-601B4E45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64D00-08FE-41D5-B600-BAEFB16C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72338-E8E8-47BB-BC6E-D6A272B8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A6C68-7047-4C30-90A4-F38C3AD1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865AC-1EDE-4AD7-9ADA-FC369BFF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3DD1-72EA-4ABE-B806-23DF15137D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1B95-9E43-4CE6-97C3-EF81568FA3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26A4-9F16-49D0-A401-2309F6F08F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0823-2BF8-4499-89D5-E400D8029C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652B-9DF4-441E-9FCC-93A070BAB4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783D-A869-49E1-966F-C7F6E271B7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616C-D7BE-4274-8D18-82587D96F8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555B-C17E-4386-BBEC-83DC006DD9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041C-CBB8-4D8F-92AE-B5BF9D2268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2712-3369-4EB0-9C42-ECB87F96D0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4342-032A-4F6B-8951-7747175112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D98B-E716-4223-92BC-98F65D9DD1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2C63-612F-461A-8F33-195079CF20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7AF2-3753-4CEB-ACB2-7A3EDC415C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A756-A91C-4B34-9F45-6573DBAC68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A7C3-7269-46C4-8E42-49376CF0FA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585E-66FE-4443-AEA1-4B9017330C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45D8-A9DA-4436-BE11-16EEF6704E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5A58-B8E3-4278-92AE-78B363EA01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8100-70F0-4260-A1E7-B159ACA794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E075-A2D6-4159-929E-1B6134E53D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16C7-E5BF-47A0-B0FE-C5FCC8065F0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1E0E-8771-43A7-B12E-58DD724411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966A-0892-4AA2-AF17-68B9BCA520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249C-9B83-4A20-8D8E-2E9BF3BB75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74F6-CA11-40F9-9D8D-641BC497CA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C269-CC24-4658-ACB0-9FDD85B5B2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D026-7917-4133-94F5-7F18E80F24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B49D-E3C4-46A4-85BF-7B9766587A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9C49-0DC9-4465-81E0-350884C7E3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66BE-25A9-4B5B-91F5-A9CD8AB87A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4337-3241-448F-99CE-CC17B34CA2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0F01-4EAA-47E7-B475-A97E8520E6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39C1-DEF3-40C1-8B53-EB399802CD0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93F9-A49C-452A-8CBC-FE5064EFD2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2CCD-C341-46D7-8E5C-F8F93F7F06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4082-4C56-4D38-A423-FAB76C12E1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44CE-3C60-4491-AFF6-BAB9496BC6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4CFD-FB09-40DC-AE7B-A643CEB854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5A87-90C6-43D7-827D-69C904344C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29BD-F6BB-43A7-AFA8-F8D2D282D6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DD4B-8941-479C-9B96-1563278B28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433440" y="2976480"/>
            <a:ext cx="827712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33280" y="917640"/>
            <a:ext cx="8677440" cy="56577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4284720" y="4221000"/>
            <a:ext cx="460836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4284720" y="4869000"/>
            <a:ext cx="460836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4211640" y="5575320"/>
            <a:ext cx="460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图片 1" descr=""/>
          <p:cNvPicPr/>
          <p:nvPr/>
        </p:nvPicPr>
        <p:blipFill>
          <a:blip r:embed="rId1"/>
          <a:stretch/>
        </p:blipFill>
        <p:spPr>
          <a:xfrm>
            <a:off x="590400" y="109440"/>
            <a:ext cx="7963200" cy="663912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2"/>
          <a:stretch/>
        </p:blipFill>
        <p:spPr>
          <a:xfrm>
            <a:off x="4500720" y="189000"/>
            <a:ext cx="3527280" cy="447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3"/>
          <a:stretch/>
        </p:blipFill>
        <p:spPr>
          <a:xfrm>
            <a:off x="4427640" y="907920"/>
            <a:ext cx="352728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4"/>
          <a:stretch/>
        </p:blipFill>
        <p:spPr>
          <a:xfrm>
            <a:off x="4140360" y="1557360"/>
            <a:ext cx="3527280" cy="44748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5"/>
          <a:stretch/>
        </p:blipFill>
        <p:spPr>
          <a:xfrm>
            <a:off x="4067280" y="2205000"/>
            <a:ext cx="352728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6"/>
          <a:stretch/>
        </p:blipFill>
        <p:spPr>
          <a:xfrm>
            <a:off x="4427640" y="3573360"/>
            <a:ext cx="352728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7"/>
          <a:stretch/>
        </p:blipFill>
        <p:spPr>
          <a:xfrm>
            <a:off x="4284720" y="4221000"/>
            <a:ext cx="352728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8"/>
          <a:stretch/>
        </p:blipFill>
        <p:spPr>
          <a:xfrm>
            <a:off x="4572000" y="4941720"/>
            <a:ext cx="41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9"/>
          <a:stretch/>
        </p:blipFill>
        <p:spPr>
          <a:xfrm>
            <a:off x="4284720" y="5661000"/>
            <a:ext cx="41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10"/>
          <a:stretch/>
        </p:blipFill>
        <p:spPr>
          <a:xfrm>
            <a:off x="4211640" y="6324480"/>
            <a:ext cx="4176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195120" y="981000"/>
            <a:ext cx="8753760" cy="489600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3924360" y="5084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5148360" y="4365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4"/>
          <a:stretch/>
        </p:blipFill>
        <p:spPr>
          <a:xfrm>
            <a:off x="6516720" y="5084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5"/>
          <a:stretch/>
        </p:blipFill>
        <p:spPr>
          <a:xfrm>
            <a:off x="7885080" y="285264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262080" y="1123920"/>
            <a:ext cx="8619840" cy="46101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971640" y="2781360"/>
            <a:ext cx="532908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971640" y="3429000"/>
            <a:ext cx="53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971640" y="4149720"/>
            <a:ext cx="53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755640" y="4811760"/>
            <a:ext cx="5329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66600" y="1262160"/>
            <a:ext cx="9010800" cy="43336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826920" y="2997360"/>
            <a:ext cx="403236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539640" y="3673440"/>
            <a:ext cx="403236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539640" y="4365720"/>
            <a:ext cx="403236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611280" y="5027760"/>
            <a:ext cx="403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233280" y="866880"/>
            <a:ext cx="8677440" cy="51242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971640" y="3213000"/>
            <a:ext cx="48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482472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755640" y="4581360"/>
            <a:ext cx="48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826920" y="5286240"/>
            <a:ext cx="4824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128520" y="879480"/>
            <a:ext cx="8886960" cy="57340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971640" y="3197160"/>
            <a:ext cx="367164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971640" y="3860640"/>
            <a:ext cx="367164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4"/>
          <a:stretch/>
        </p:blipFill>
        <p:spPr>
          <a:xfrm>
            <a:off x="971640" y="4508640"/>
            <a:ext cx="367164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5"/>
          <a:stretch/>
        </p:blipFill>
        <p:spPr>
          <a:xfrm>
            <a:off x="971640" y="5229360"/>
            <a:ext cx="4176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71280" y="762120"/>
            <a:ext cx="9001440" cy="59338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684360" y="4494240"/>
            <a:ext cx="424800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900000" y="5113440"/>
            <a:ext cx="44640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26:5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